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4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6.wmf" ContentType="image/x-wmf"/>
  <Override PartName="/ppt/media/image36.wmf" ContentType="image/x-wmf"/>
  <Override PartName="/ppt/media/image16.png" ContentType="image/png"/>
  <Override PartName="/ppt/media/image30.png" ContentType="image/pn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73C-818C-4792-86F1-3F8523E5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7A6-D9A8-457C-A7E5-DFC1D313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B1C-71F6-4713-9604-F15C2D88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9B1-EC5F-449A-9398-F3B1C8A8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F18-A78E-496E-A160-5B630F4E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40A-89C9-4EF6-AE81-B227C836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A73-2AED-4EDD-AB11-310CB15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350-B645-4ED4-9FC1-36A05049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EAE-3EFB-4C37-9946-A531F26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051-A066-4466-9BCB-1056DD61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A69-55ED-4BF2-9E8B-0B45C186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39E-7CCC-432B-AF17-CA78114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4C8D-401E-4955-BD6E-A9AFB7034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4292280"/>
            <a:ext cx="84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Заякина Ольга, ученица 11 класс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Руководитель: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Клетченко У.Ж., учитель математи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У «Родников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692280"/>
            <a:ext cx="8569440" cy="28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Русск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ёные-математики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Леонтий Филиппович Магницкий (1669-173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572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онтий Филиппович Магницкий — первый учитель математики и морских наук в России — обладал самобытным математическим дарова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3205080" cy="5038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иколай Иванович Лобачевский (1793-185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03280" y="1773360"/>
            <a:ext cx="5940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обачевский, Николай Иванович - великий математик, один из творцов неевклидовой геометрии. Лобачевский читал лекции по самым разнообразным отделам математики, а также по физике и астроном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lob1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187440" cy="5013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ихаил Васильевич Остроградский (1801-18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24000" y="1599840"/>
            <a:ext cx="601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хаил Васильевич Остроградский – русский математик, один из основателей  петербургской математической школы. Плодотворно  занимался Остроградский теоретической механикой, математическим анализом. Многие его работы имели прикладную направлен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3481560" cy="41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афнутий Львович Чебышев (1821-18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181440" y="1789200"/>
            <a:ext cx="5364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бышев Пафнутий Львович - знаменитый русский математик.  Чебышев  создал школу русских математиков, из которых многие пользуются в настоящее время большой извест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691080" cy="4753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лизавета Федоровна Литвинова (1845 - 19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лизавета Федоровна Литвинова была в России одной из первых женщин-математиков. Доктор математики, философии и минералогии Бернского университета, предлагала убрать узкоспециальные предметы из школьной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офья Васильевн Ковалевская (1850-18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252360" y="1773000"/>
            <a:ext cx="597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валевская – выдающийся русский математик; первая в мире женщина – профессор и член – корреспондент Петербургской академии наук. В 1888 году С.Ковалевская закончила научную работу – “Задача о вращении твердого тела около неподвижной точки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3473640" cy="34704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ндрей Андреевич Марков (1856-19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1773000"/>
            <a:ext cx="6012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ков много занимался вопросами практического применения теории вероятностей. Был прогрессивным ученым, смелым борцом против реакционных действий царского правительства, против мракобесия и религиозного дурман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407040" cy="4608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лександр Михайлович Ляпунов (1857-19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03280" y="1599840"/>
            <a:ext cx="5940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япунов обессмертил свое имя, главным образом, благодаря созданию целой науки об устойчивости и равновесии движущихся механических систем. Кроме того, Ляпунову принадлежат замечательные результаты по теории вероятностей, математической физике и многое друг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151440" cy="475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лексей Николаевич Крылов (1863-194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79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был крупнейшим математиком, физиком и инженером корабельного дела. Его труды являются образцом соединения высоких математических теорий с вопросами современной научно-теоретической практики. Провёл  рядисследований по истории физико-математических наук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3124440" cy="4392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ладимир Андреевич Стеклов (1864-192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97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ладимир Андреевич Стеклов – русский  советский математик, видный  организатор советской науки. Стеклов известен также как историк математики, философ и писатель. Его перу принадлежат книги о русских и зарубежных ученых, путевые очерки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78240" cy="45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545040"/>
            <a:ext cx="862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Математики похожи на французов: что бы вы ни сказали, они все переведут на собственный язык. Получится нечто противоположн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оганн Вольфганг Г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дежда Николаевна Гернет (1877- 1943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608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вая, энергичная, она интересно вела занятия. Помимо занятий в учебные часы, Надежда Николаевна проводила много консультаций, вела математические кружки, руководила чтением математической литера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3440160" cy="3887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иколай Николаевич Лузин (1883-195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08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узин был неисчерпаемым источником свежих идей математиков области, как теория множеств и теория функций. И это соединялось у него с блестящим лекционным талантом, с умением увлечь молодежь, зажечь её иде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" descr=""/>
          <p:cNvPicPr/>
          <p:nvPr/>
        </p:nvPicPr>
        <p:blipFill>
          <a:blip r:embed="rId1"/>
          <a:stretch/>
        </p:blipFill>
        <p:spPr>
          <a:xfrm>
            <a:off x="5580000" y="1700280"/>
            <a:ext cx="3390840" cy="47656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то Юльевич Шмидт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1891-195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554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веянное легендами имя Отто Юльевича Шмидта в памяти миллионов  людей  навсегда связано с освоением Арктики. Однако при  всей многогранности  научных интересов Шмидт всю жизнь  оставался, прежде всего,  математ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326040" cy="48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Иван Матвеевич Виноградов (1891-198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108360" y="1557360"/>
            <a:ext cx="5940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ван Матвеевич Виноградов – русский советский математик, дважды Герой Социалистического  Труда, академик Основные работы Виноградова относятся к теории чисел. Ему принадлежит  решение одной из двух проблем Гольдб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94360" cy="4321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иколай Григорьевич Чеботарёв (1894-194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659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ава Чебышева как крупнейшего ученого-математика была настолько велика, что он был избран почетным членом многих академий, университетов и научных обществ, русских и заграничных. Академик Чебышев является основателем петербургской математической шко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3079800" cy="4105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офья Александровна Яновская (1896 - 19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96720" y="1628280"/>
            <a:ext cx="64087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новская провела большую работу по повышению математической культуры в нашей стране. В 1950 году Софья Александровна выпустила в свет книгу “Передовые идеи Н.И.Лобачевского – орудие борьбы против идеализма в математике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3168720" cy="42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авел Сергеевич Александров (1896-19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24000" y="1557360"/>
            <a:ext cx="61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влу Сергеевичу Александрову принадлежит заслуга в создании научной школы. Человек огромного личного обаяния, высочайшей разносторонней культуры, он обладал способностью буквально притягивать к себе молодых талантливых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29904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лагея Яковлевна Полубаринова (1899-199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76360" y="1628280"/>
            <a:ext cx="572436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лагея Яковлевна выпустила очень интересные  книги "Некоторые задачи установившихся движении грунтовых вод", "Теория движения грунтовых вод", десятки статей. Провела  ряд исследований, сделавших  её извест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39588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Бари Нина Карловн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1901 - 196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3280" y="1844640"/>
            <a:ext cx="5940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на Карловна Бари– советский математик, доктор физико-математических наук, профессор МГУ. Бари – ученый с мировым именем. С 1927 года она – член Французского и Польского математических общест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36129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ндрей Николаевич Колмогоров (1903-198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875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огоров - российский математик, основатель научных школ по теории вероятностей и теории функций, академик. Изучал теорию функций, математической логике, топологии, дифференциальным уравнениям и теорию вероятностей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2781360"/>
            <a:ext cx="2604960" cy="3456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500"/>
                            </p:stCondLst>
                            <p:childTnLst>
                              <p:par>
                                <p:cTn id="6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едмет исследовательск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6121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ые 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80000" y="1700280"/>
            <a:ext cx="333072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Людмила Всеволодовна Келдыш (1904 - 197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32000" y="1915920"/>
            <a:ext cx="601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дмила Всеволодовна— советский математик. Она является крупным специалистом в области теории функций действительного переменного и теоретико-множественной топ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384360" cy="3183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Лев Семёнович Понтрягин (1908-198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55640" y="1600200"/>
            <a:ext cx="6337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 руководством Понтрягина создана новая область математики — теория оптимальных процессов. Эта теория нашла широкое признание математиков всего мира. Появились сотни статей, авторы которых пользуются расчетными формулами Понтряг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2898720" cy="40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ергей Львович Соболев (1908-198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541800" y="1483920"/>
            <a:ext cx="5986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чету академика Соболева более 100 фундаментальных работ, представляющих новое слово в науке. В заключение отметим, что под руководством академика Соболева проведена весьма ценная для науки расшифровка письмен май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651480" cy="5040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стислав  Всеволодович Келдыш (1911-197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84000" y="1599840"/>
            <a:ext cx="64803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ждународное признание Келдышу  как математику  принесли его работы по  теории функций комплексного переменного и ее приложений, в первую очередь по представлению аналитических функций рядами полиномов, где ему принадлежит одна из основных теор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2813040" cy="3895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Юрий Владимирович Линник (1914-19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303280" y="1715760"/>
            <a:ext cx="68403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нник получил важные результаты по труднейшим вопросам распределения простых чисел в натуральном ряду и в арифметической прогрессии. Имдоказана теорема о величине наименьшего простого числа в этой прогрессии. Кроме теории чисел, профессор успешно занимается вопросами теории вероятностей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25876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льга Александровна Ладыженская (1922 -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76720" y="1789200"/>
            <a:ext cx="5867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льга Александровна Лады́женская— советский математик, академик. Автор более двухсот научных работ и шести монографий. Работы Ладыженской во многом определили развитие и современное состояние этой области матема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ladij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3514680" cy="424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Игорь Ростиславович Шафаревич (1923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тор физико-математических наук Игорь Ростиславович Шафаревич занялся алгебраической теорией чисел и одну за другой решил две чрезвычайно важные пробл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19560" cy="4897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лейник Ольгa Apсеньевнa (1925 – 200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24000" y="1773000"/>
            <a:ext cx="594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aтемaтик, пpофессоp, лaуpеaт Госудapственной пpемии СССР. Изучала топологию aлгебpaических многообpaзий, уpaвнения с чaстными пpоизводными, мaтемaтическaя физикa, теоpия погpaничного сл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24640" y="1844640"/>
            <a:ext cx="3301920" cy="4753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500"/>
                            </p:stCondLst>
                            <p:childTnLst>
                              <p:par>
                                <p:cTn id="7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ергей  Никитич Мергелян (1928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87280" y="1599840"/>
            <a:ext cx="576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математической науке Мергелян создает свою собственную научную школу, и нужно сказать, что это ему удается с большим успехом. Мергелян любит музыку и пение. Мергелян не стал первоклассным математиком с мировы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3303360" cy="367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160"/>
                            </p:stCondLst>
                            <p:childTnLst>
                              <p:par>
                                <p:cTn id="7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16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50920" y="692280"/>
            <a:ext cx="8353440" cy="27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76720" y="4508640"/>
            <a:ext cx="2477880" cy="1446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бъект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иографические данные женщин-математ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2324160" cy="23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11640" y="4495680"/>
            <a:ext cx="3024360" cy="1473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ктуальность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5640" y="160020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спользование исторического материала об ученых-математиках в практической деятельности учител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888000" cy="291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20"/>
                            </p:stCondLst>
                            <p:childTnLst>
                              <p:par>
                                <p:cTn id="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20"/>
                            </p:stCondLst>
                            <p:childTnLst>
                              <p:par>
                                <p:cTn id="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Цель данн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работать учебный проект для применения на уроках математики исторического  материала об ученых-математиках, через оформление сборника «Русские учёные-математики» и создани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зентаций об ученых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мати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2113200" cy="2205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2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бор биографических данных интересующих нас ученых – математ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работка собранной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сбор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презента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ведение итог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221000"/>
            <a:ext cx="2160720" cy="202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тап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ановка цели и задач исследовательской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вление наиболее изучаемых в школе ученых-математ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бор биографических данных об ученых-математи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аботка собран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и оформление сборников «Русские учёные-математик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презентации по учёным к урокам математики и геомет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ведение итогов и анализ проделан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541440" y="404280"/>
            <a:ext cx="968544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Русские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математ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608360" cy="4021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7:38:56Z</dcterms:created>
  <dc:creator>Gimnaziy</dc:creator>
  <dc:description/>
  <dc:language>en-US</dc:language>
  <cp:lastModifiedBy>1</cp:lastModifiedBy>
  <dcterms:modified xsi:type="dcterms:W3CDTF">2009-01-25T08:40:32Z</dcterms:modified>
  <cp:revision>301</cp:revision>
  <dc:subject/>
  <dc:title>Слайд 1</dc:title>
</cp:coreProperties>
</file>